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724005"/>
        <c:axId val="84173943"/>
      </c:barChart>
      <c:catAx>
        <c:axId val="647240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173943"/>
        <c:crosses val="autoZero"/>
        <c:auto val="1"/>
        <c:lblAlgn val="ctr"/>
        <c:lblOffset val="100"/>
        <c:noMultiLvlLbl val="0"/>
      </c:catAx>
      <c:valAx>
        <c:axId val="841739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7240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36A7-C056-4D2F-96BC-ADD66D42E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D8E0-18B2-4D9C-ABE8-8F46B8D9F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9848-590B-4F85-AEFA-FDEF8DF8A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AD5D-C758-4D41-9139-DF0D64428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892F-760F-4BC0-8CB9-505850025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A796-6286-4C3B-9A3D-7BDF898A5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EAFC-0BF1-48F1-B9CF-95C66CF88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69EE-F52D-47DA-BCE0-81183EA6F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5740-DF04-471C-AF1A-0F1D7D273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A2B0-AAD4-42EE-BE75-DE8FD4E4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E2F9-B083-4E27-8071-1F2CD795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E64F-3BFC-41C8-B9D5-EE2E2A065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3A0F3E-4EB1-4857-AF83-E1AC8745001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