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E9B60DD-B5CA-44C8-9434-33C326979F2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9DC6842-2272-4E92-9EA1-CF024F2EBB6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FA43D98-C131-4CEE-8BD0-7461FE93535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59F86F5-0E2E-48AD-9AD8-AA11F77A905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94EEFD0-0FFD-4867-88CC-E7C31D08214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EF12198-E39C-4565-8E27-476C73D25CD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D24FEC1-A146-4D6C-AAB6-B24545EAE6F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C30E6CB-3F32-48D9-AAE9-1BA353A510C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CB8D242-8073-42CD-B26B-009604DE214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FCD0B5B-53F3-4FC5-888F-49BFF769AD3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EA98B8E-239D-4E21-81F9-F6BDC342BC5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75722EB-F969-48FF-A9A5-877D9AA47F2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6EDA137-AED6-4B3C-ADF6-4886865360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5B5332E-08BF-4E1A-A869-418EB51965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5B98056-C344-4F7D-BD53-CAB64E731C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4F83A00-E48D-48AC-BA98-E7D748FFE6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4EEB0D8-ED72-482E-BA12-FE9C9E128D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BD47C29-F032-4BB2-8D77-335796D55F5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FEC5B14-68B5-42F6-BFAC-B9C2104CEFB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41C1C82-0B4B-46F6-A3E8-6F2AC2CDC7D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ADFA418-B04E-419B-BE13-B5BC89533C0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FA10D15-3946-4AD8-BE82-598E87F0EAB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3DF9234-4B4F-4C03-81C0-CC563F16A71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03EF2E8-25E5-4BE8-A863-F44E5E1964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4CB4AF8-533A-4E0A-9D76-8D23EF4F79A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7E6265B-235F-4E31-AD43-1D00B35E7C8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7669B79-62DF-4506-9160-6C741E42841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F238F1E-1A3D-4AEC-9772-577654DE112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3C8C297-22C4-420B-AE77-98BA710DD2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50A1726-A362-486E-9416-E652C4948E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2B13BA-78E0-4802-9ABF-A8E091A221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AF2B43-7955-4E46-A580-3CA613AE87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2BD1F3-9BB8-45F6-A805-4A43A6AFC1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B3B424-6471-4382-9A30-186FA8546F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8B57A7-D2E2-4E03-92D9-44B1DE68F4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922716-09F8-4904-9937-258A8477DC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CF5FE-3BFA-45CB-83B0-EBF4FE84C6E7}"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DECE8-9190-4E48-ADC8-549583EE26C4}"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FDEB322-4986-4480-B569-E329D9D8108F}"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161A786-CCDE-4647-A66C-4D38DFF34C7C}"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58A62A4-2016-4C14-BD6B-BDC982B74CA7}"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2322F90-4722-4F27-98E7-7BBFDD6C6AA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630BB15-5571-492E-B375-AA5F83DC6154}"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1136D28-A74A-46F2-A3B6-27480F080A04}"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EE0E018-076C-47C5-95A6-C045D51BD555}"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478DA77-86F6-4191-933C-8BEA9FB851E8}"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5C1AAE2-9CD6-4862-A0BB-6914BD55ABAC}"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9449D55-1A77-48CA-A490-1928D295E9B1}"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9FB58A2-EED0-48D1-ACCA-E911B0AD0F93}"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FDF25552-71CB-4386-847B-DFD212582E79}"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30D9007-5CFE-4D22-BFC8-4EB979946CB4}"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3D71B31-D661-49D7-9993-1EC7DA8B5FD3}"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E93DFC4-AF13-4EEC-BBC7-063AE760D02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E6A34B2-47A1-482B-90DF-395EE42254CA}"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9AB5B52-7496-49D1-8EA4-04E2113F8F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6CE006A-7A23-46C8-8BBF-C31EEB04CC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A7B5801-B160-4C9A-92F4-59DDA08F201C}"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37BF58-287E-4A07-802D-343A0285C1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0D938CF-03B7-4C8D-B733-596ABA8772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5AC9372-9490-48FD-820D-643DCDFF2178}"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0AC9736-6670-43CD-82D7-3CE4A1EEF7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1A302C1-FDFD-4DA9-BEDA-6E8311073A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CA08D05-C6DF-41AE-8643-DAB0E626D5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A7CEEE5-6EDD-492F-839B-4A88736F09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30143B-71D1-412D-B933-2842A254DA0A}"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979699B-B3BE-48C2-B179-C7CC1172AA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533C446-10B8-432E-9AE7-2CA95D65B1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EA1AA2A-4F10-4551-9AAB-8E4285E4ED62}"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FC14922-656D-47D2-9EFB-44465DDFB86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3086306-C001-4D94-9861-D92EC4518AF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FFCEF37-EBC3-4FEB-A9F3-4C0CF5C0E0D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B5096E2-5A80-461B-906D-BBCED3F0A31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C11B868-BF62-4A09-A074-6DA7B16F58C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CBCBE4C-31F9-4375-8832-76A953B349B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CBBEB14-D7A3-4211-BF29-9867E90CF20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F1ECB3F-AFD7-4C91-A22F-1836C9482D8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FE5CDD6-256A-48E7-82B7-AA994195CA5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459E249-4CF7-45A3-BFA4-63444892614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B6C1631-E1F5-41B4-8A7A-D12119BF470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7922027-193F-421A-972E-B56D673716D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840488-0182-4986-B845-4C7A21346C4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1280BD8-F363-434A-8D8B-BC466A1E776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7AF263E-3CB7-41BA-BF52-71BCDBA73AB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554F42A-DAC3-4056-9731-F3D059E36C4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06DE736-3213-424B-8F4D-8C3360BC05E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5A378C9-7223-4DAF-AD75-21DC472B8017}"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4C15F16-7F7A-46C2-BA1B-6D092D9856C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EE51F5C-5638-4524-ABEA-68FF01EED97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2572B22-45D4-42C1-9E58-D664B64573A1}"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162E072-096B-48EA-B3F7-8700326F4AF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9B814B0-C67B-4E4A-A555-BA5CF4444B4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D25D233-B37C-4D8D-A756-9700DBC08D3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ED99DBC-99A6-4FBA-A450-AA3F6EC24318}"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2A134F4-A323-402E-8168-D34E040877BF}"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8ED2757-6DCF-4490-A761-155AF87DC2D9}"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9F54DE7-12A3-4787-83A0-033B27526B71}"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96FAFB9-2A05-44C7-A4FB-767EB196D330}"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E0ADD0-9962-4397-8DD2-3F1E0087036C}"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57F2410-0EDD-46F4-B9F4-F80C951703A3}"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0CBE31-F4D0-4B3D-BD5A-F5DB879C328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944671B-E397-4A2E-939D-10A72A6051A6}"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525134D-72D5-48D1-AE59-E0A428D54B42}"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30FD029-077F-4C1E-8DD1-A4F0A15125B9}"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5AAF5C9-2EAD-4168-B5C2-1F7CB56A56CD}"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48F68B8-0AC0-4ED0-885B-2E41CF2DD46C}"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AB06A57-B782-458E-8554-319AE569B590}"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1C483B2-BD5B-46CD-8E51-26CC333B0978}"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16A632E-E496-455E-924C-C936F3F5AC66}"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B34B1E2-BFAE-4A90-8B9E-BF7050D43F15}"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DAD899A-04A7-4293-9EDC-8A69EDB0776C}"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20226C0-7C95-4481-A2DD-6B4C950605DC}"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D48884F-E766-400E-A6E5-BC698E8309FB}"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9753348-4B1E-42E2-8D2B-0553D056F73F}"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E16E23A-4719-4C0D-94E4-21FF8FBF8F55}"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894A405-ACA8-45AE-B99A-421ECE51881C}"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A4927EE-C88D-4C44-913D-36C195E281C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CBA122D-0AAA-4195-84B4-25ACD2DF4625}"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BE2ED59-95CC-4802-943D-1323BD8B1D9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021E5A7-0670-464D-A8C9-ADBF9981C71B}"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EF0C39A-4211-4032-9D49-513B7B5F4936}"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6AD8B9D-7397-4C98-AB68-EB076558ADFB}"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E3C7DB8-D5EE-4BB1-AF2B-5621E5CB7DA9}"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D017B80-2B2B-4B73-B173-4E8A3C58D46D}"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191B57C-BA2D-40A7-BCEE-E7BA1B5CA641}"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8503E9C-29D3-4642-BE80-B921588C9C17}"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BDC6230-CC31-4D20-969B-CD6D712A36C8}"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E95085A-61F6-4E5C-88AA-4100005AB930}"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391BCA1-57A6-4D2C-9AE8-F6896139F496}"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BBDA6EA-9765-4502-A11A-D4E94E465D32}"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6EE791B-47AF-4389-86E8-7E0BDC1A912E}"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D25C658-1B30-4798-85B2-A245D451C8A6}"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E8A5AC6-19F7-46DA-9ABB-F9BABFA04785}"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E25D1F0-5A71-4FB7-BA5C-02BB4793AEF4}"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E519237-09E3-4B66-8587-D22004247B6E}"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FE39F80-63ED-4508-AD27-A21D16314C74}"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8FAABD5D-AF54-4B01-B38B-7D93DE0E00F9}"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B8CA43F-CFF2-4E37-89A3-0106AD7E2AE7}"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D521689-2E9A-468B-B353-498EC7A5134C}"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55A96E0-6097-4066-9B0D-72CA6856DAB0}"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73DF273-43EA-4A43-9935-27724872406D}"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F97FD32-BB9E-4242-8651-60187FB5A171}"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5BE89D1-1A86-4B2E-BEA6-36E2BAF5B186}"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60FD270-E035-408C-95BD-0DF10B6BD51F}"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52201A5-8374-432A-BC36-AC0CF148C563}"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E670523-605D-4149-A98B-49B534AF80D9}"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25CD181-D321-4F1F-AAFF-CB1AAD2ECA22}"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DAC5AB-E522-4655-8BA7-7E73D9BE1E58}"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4D509AA-639F-4263-92C8-6451581A4D70}"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E0600B7-3363-4F20-A658-B10ABBD3F496}"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